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32.wmf" ContentType="image/x-wmf"/>
  <Override PartName="/ppt/media/image38.jpeg" ContentType="image/jpeg"/>
  <Override PartName="/ppt/media/image40.jpeg" ContentType="image/jpeg"/>
  <Override PartName="/ppt/media/image9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0.png" ContentType="image/png"/>
  <Override PartName="/ppt/media/image37.jpeg" ContentType="image/jpeg"/>
  <Override PartName="/ppt/media/image28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49.png" ContentType="image/png"/>
  <Override PartName="/ppt/media/image25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054-F562-4708-9648-8DFCF899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42B-D0E9-43D2-BC5D-60016B4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E33-C0BC-4609-B5F0-C8C64F66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95A-6B5B-426D-8E1D-8F35AC71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03A-03E0-4D95-AE6A-E701E32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95B-7157-4DF6-A5CD-B84679B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ED1-AAB7-487E-B44D-8B7FE28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EE0-5A32-4D49-B566-9BD2C3AA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700-EC8C-4B09-80C4-2E134D9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686-D807-41D7-B215-2D5C78E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37D-A057-43E4-9F88-F42B882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ACD-DBCB-4EF4-A66C-4591CD7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603-37B4-4B47-80E0-BCED90FCC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lims@bashnxa.r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3860280"/>
            <a:ext cx="583272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абораторная информацион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60640" y="4076280"/>
            <a:ext cx="374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19280" y="1163520"/>
            <a:ext cx="626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Автоматизация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оизводственных лаборатор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-681120" y="2924280"/>
            <a:ext cx="6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9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900"/>
                            </p:stCondLst>
                            <p:childTnLst>
                              <p:par>
                                <p:cTn id="22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06041 C -0.00799 -0.06851 0.04132 -0.07638 0.05816 -0.07638 C 0.16753 -0.07638 0.27968 0.04862 0.27968 0.17362 C 0.27968 0.11065 0.33593 0.04862 0.38906 0.04862 C 0.44514 0.04862 0.49826 0.11158 0.49826 0.17362 C 0.49826 0.1426 0.52621 0.11065 0.55434 0.11065 C 0.58246 0.11065 0.61041 0.14167 0.61041 0.17362 C 0.61041 0.15764 0.62465 0.1426 0.63837 0.1426 C 0.6526 0.1426 0.66666 0.15857 0.66666 0.17362 C 0.66666 0.16551 0.67396 0.15764 0.68055 0.15764 C 0.68437 0.15764 0.69479 0.16575 0.69479 0.17362 C 0.69479 0.16968 0.69843 0.16551 0.70208 0.16551 C 0.70208 0.16644 0.70937 0.16945 0.70937 0.17362 C 0.70937 0.17153 0.70937 0.16968 0.71302 0.16968 C 0.71302 0.17061 0.71666 0.17176 0.71666 0.17362 C 0.71666 0.17269 0.71666 0.17153 0.71666 0.17061 C 0.72031 0.17061 0.72031 0.17153 0.72031 0.17269 C 0.72396 0.17269 0.72396 0.17176 0.72396 0.17061 C 0.72778 0.17061 0.72778 0.17153 0.72778 0.17269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ПН – 20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175280" y="2394000"/>
            <a:ext cx="4968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стола пенетрометра в двух режимах (быстро и медленно) по нажатию клавиш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момента касания иглой биту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величины пенетрации с точностью ±0,05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информации о ходе и результатах испытания на жидкокристаллическом 4-х строчном диспл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новка процесса испытания по окончании анализа со звуковой сигнализ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8000" y="2133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етромет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ефтепродуктов(биту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ПН-20wh копия"/>
          <p:cNvPicPr/>
          <p:nvPr/>
        </p:nvPicPr>
        <p:blipFill>
          <a:blip r:embed="rId1"/>
          <a:stretch/>
        </p:blipFill>
        <p:spPr>
          <a:xfrm>
            <a:off x="468360" y="2997360"/>
            <a:ext cx="269856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АТХ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492360" y="2060640"/>
            <a:ext cx="56516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деформация пластины      с образцом по заданной программ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ое программное понижение температуры образца с заданной скорость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хрупкост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100 результатов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АТХ-20 новый"/>
          <p:cNvPicPr/>
          <p:nvPr/>
        </p:nvPicPr>
        <p:blipFill>
          <a:blip r:embed="rId1"/>
          <a:stretch/>
        </p:blipFill>
        <p:spPr>
          <a:xfrm>
            <a:off x="539640" y="3573360"/>
            <a:ext cx="2738520" cy="2878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095480" y="2706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206064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туры хрупкости нефтебит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тел УПП-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211640" y="2060640"/>
            <a:ext cx="46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для подготовки проб предназначен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расплавления навески битума на стандартной металлической пласти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хлаждения её на горизонтально расположенном столи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работы в комплекте с аппаратами определения температуры хрупкости битума АТХ-20, АТХ-90, ФРААС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upp копия"/>
          <p:cNvPicPr/>
          <p:nvPr/>
        </p:nvPicPr>
        <p:blipFill>
          <a:blip r:embed="rId1"/>
          <a:stretch/>
        </p:blipFill>
        <p:spPr>
          <a:xfrm>
            <a:off x="179280" y="3860640"/>
            <a:ext cx="3888000" cy="2452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10160" y="278136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 для подготовки пр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КИШ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780000" y="1628640"/>
            <a:ext cx="50767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размягчения 2-х образц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ий программный нагрев образца с заданной скорость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300 результатов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КИШ-20"/>
          <p:cNvPicPr/>
          <p:nvPr/>
        </p:nvPicPr>
        <p:blipFill>
          <a:blip r:embed="rId1"/>
          <a:stretch/>
        </p:blipFill>
        <p:spPr>
          <a:xfrm>
            <a:off x="179280" y="400536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79280" y="1989000"/>
            <a:ext cx="463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автом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размяг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ебит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КИШ-20М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780000" y="1628640"/>
            <a:ext cx="50767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размягчения 4-х образц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ий программный нагрев образца с заданной скорость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300 результатов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1989000"/>
            <a:ext cx="463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автом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размяг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ебит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КИШ20М4"/>
          <p:cNvPicPr/>
          <p:nvPr/>
        </p:nvPicPr>
        <p:blipFill>
          <a:blip r:embed="rId1"/>
          <a:stretch/>
        </p:blipFill>
        <p:spPr>
          <a:xfrm>
            <a:off x="250920" y="3716280"/>
            <a:ext cx="3960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тел ВУБ-2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419640" y="2205000"/>
            <a:ext cx="54943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поддержание заданной температуры в термостат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ое открытие отверстия истечения при достижении температуры испыт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ий отсчёт времени истечения продук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400 результатов испытани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vub копия"/>
          <p:cNvPicPr/>
          <p:nvPr/>
        </p:nvPicPr>
        <p:blipFill>
          <a:blip r:embed="rId1"/>
          <a:stretch/>
        </p:blipFill>
        <p:spPr>
          <a:xfrm>
            <a:off x="179280" y="3068640"/>
            <a:ext cx="3116520" cy="3598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-164160" y="1989000"/>
            <a:ext cx="398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ппарат автоматический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услов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язкости битум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тел ДБ-20-1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708360" y="2176560"/>
            <a:ext cx="5329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измерение и индикацию температуры теплоносителя в зоне испытани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растяжение одновременно трёх образцов с заданной скорость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значений растяжимости и номера про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растяжения по окончании испыт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длина бани 150 см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еремешивание теплоносителя для обеспечения равномерной температуры в зоне испы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ДБ-20"/>
          <p:cNvPicPr/>
          <p:nvPr/>
        </p:nvPicPr>
        <p:blipFill>
          <a:blip r:embed="rId1"/>
          <a:stretch/>
        </p:blipFill>
        <p:spPr>
          <a:xfrm>
            <a:off x="179280" y="4221000"/>
            <a:ext cx="3095640" cy="2187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79280" y="2276640"/>
            <a:ext cx="40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я растяжения нефтяных бит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ВО-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175280" y="3143160"/>
            <a:ext cx="47545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УЕТ МЕТОД КЛИВЛЕ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автоматическое выполнение следующих фун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программное повышение температуры продукта с заданной скоростью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испытание  продукта с помощью газового подж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автоматическая фиксация и запоминание температуры вспыш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остановка процесса испытания по окончании анализа со звуковой сигнал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тушение горящего продукта по окончания анализа с помощью закрытия тигля кр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38840" y="2143080"/>
            <a:ext cx="56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спышки в открытом тиг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9" descr="АТВО-21.jpg"/>
          <p:cNvPicPr/>
          <p:nvPr/>
        </p:nvPicPr>
        <p:blipFill>
          <a:blip r:embed="rId1"/>
          <a:stretch/>
        </p:blipFill>
        <p:spPr>
          <a:xfrm>
            <a:off x="214200" y="2928960"/>
            <a:ext cx="3552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КС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140360" y="1844640"/>
            <a:ext cx="482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значен:</a:t>
            </a: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точного поддержания заданной температуры в любом оборудован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работы в комплекте с аппаратами ДБ-2М, ДБ-150, ДБ-20-150, ПН-10Б, ПН-20Б, АТХ-20, АРНС-20, Кристалл-10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ТКС-20whкопирование"/>
          <p:cNvPicPr/>
          <p:nvPr/>
        </p:nvPicPr>
        <p:blipFill>
          <a:blip r:embed="rId1"/>
          <a:stretch/>
        </p:blipFill>
        <p:spPr>
          <a:xfrm>
            <a:off x="250920" y="3141720"/>
            <a:ext cx="2698560" cy="359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3276720" y="3213000"/>
            <a:ext cx="4968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поддержание заданной температуры посредством нагрева или охлаждения жидкости-теплоносителя внутри собственной камеры и на внешних объектах термостатир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меется возможность задания необходимой точности поддержания температур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меется возможность автоматического включения на термостатирование через заданный промежуток времени (от 1 минуты до 100 час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-111960" y="213372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криостат жидкос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-20-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492360" y="1916280"/>
            <a:ext cx="525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нижней плиты с образцом с заданной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дополнительных характеристик(предел прочности, работа на разрушени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ПА-20-50"/>
          <p:cNvPicPr/>
          <p:nvPr/>
        </p:nvPicPr>
        <p:blipFill>
          <a:blip r:embed="rId1"/>
          <a:stretch/>
        </p:blipFill>
        <p:spPr>
          <a:xfrm>
            <a:off x="468360" y="2349360"/>
            <a:ext cx="2389320" cy="4318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7080" y="1844640"/>
            <a:ext cx="29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автома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ха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правление лаборатор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вопрос"/>
          <p:cNvPicPr/>
          <p:nvPr/>
        </p:nvPicPr>
        <p:blipFill>
          <a:blip r:embed="rId2"/>
          <a:stretch/>
        </p:blipFill>
        <p:spPr>
          <a:xfrm>
            <a:off x="0" y="2924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516720" y="463680"/>
            <a:ext cx="18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197080" y="15048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лабораторный контроль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195640" y="3160800"/>
            <a:ext cx="69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качества и стабильности результатов анали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197080" y="2657520"/>
            <a:ext cx="647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д от рутин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в лабораториях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2195640" y="19368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базы данных по результатам выполненных экспериментов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2195640" y="45576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руководства достоверной, полноценной, своевременной информацие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195640" y="529272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е документирование всего процесса проведения исследован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2195640" y="602136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требованиям ГОСТ Р ИСО 57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2195640" y="3809880"/>
            <a:ext cx="66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зированный сбор и обработка результатов лабораторных испыт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-20-1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492360" y="1916280"/>
            <a:ext cx="525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нижней плиты с образцом с заданной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дополнительных характеристик(предел прочности, работа на разрушени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27080" y="1844640"/>
            <a:ext cx="29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автома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ха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ПА-20-100 общий фид фото копия"/>
          <p:cNvPicPr/>
          <p:nvPr/>
        </p:nvPicPr>
        <p:blipFill>
          <a:blip r:embed="rId1"/>
          <a:stretch/>
        </p:blipFill>
        <p:spPr>
          <a:xfrm>
            <a:off x="684360" y="2540160"/>
            <a:ext cx="19713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М – 20-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987640" y="2133720"/>
            <a:ext cx="57610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назначена для механических испытаний сжатием и растяж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а обеспечивает автоматическое выполнение следующих фун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ение траверсы с заданной скорост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новка процесса испытания по окончании анализа со звуковой сигнал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ческая передача результатов испытаний по радиоканалу на ПК, расчёт дополнительных параметров и статистическая обработка (если лаборатория оборудована исследовательской системой ЛИНТЕЛ-ЛИС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92200" y="1989000"/>
            <a:ext cx="22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Ы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РМ-20 общий вид"/>
          <p:cNvPicPr/>
          <p:nvPr/>
        </p:nvPicPr>
        <p:blipFill>
          <a:blip r:embed="rId1"/>
          <a:stretch/>
        </p:blipFill>
        <p:spPr>
          <a:xfrm>
            <a:off x="539640" y="2997360"/>
            <a:ext cx="17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8"/>
          <p:cNvGraphicFramePr/>
          <p:nvPr/>
        </p:nvGraphicFramePr>
        <p:xfrm>
          <a:off x="826920" y="1989000"/>
          <a:ext cx="7309080" cy="24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989000"/>
                    <a:ext cx="730908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1901880" y="1125360"/>
          <a:ext cx="43812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1880" y="1125360"/>
                    <a:ext cx="438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15"/>
          <p:cNvSpPr/>
          <p:nvPr/>
        </p:nvSpPr>
        <p:spPr>
          <a:xfrm>
            <a:off x="1932480" y="108900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ение образ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908000" y="4581360"/>
            <a:ext cx="59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Регистрация образц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Назначение программы испыта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Контроль качества и стабильности результатов анализов согласно требованиям ГОСТ Р ИСО 572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1906560" y="1268280"/>
          <a:ext cx="457200" cy="4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268280"/>
                    <a:ext cx="457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5"/>
          <p:cNvSpPr/>
          <p:nvPr/>
        </p:nvSpPr>
        <p:spPr>
          <a:xfrm>
            <a:off x="1862640" y="112536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ение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826920" y="1989000"/>
          <a:ext cx="7786800" cy="24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89000"/>
                    <a:ext cx="77868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8"/>
          <p:cNvSpPr/>
          <p:nvPr/>
        </p:nvSpPr>
        <p:spPr>
          <a:xfrm>
            <a:off x="1908000" y="4581360"/>
            <a:ext cx="59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ый справочник материа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складского учета материал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списание расхода материалов при проведении экспериме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4"/>
          <p:cNvGraphicFramePr/>
          <p:nvPr/>
        </p:nvGraphicFramePr>
        <p:xfrm>
          <a:off x="2008080" y="1197000"/>
          <a:ext cx="476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8080" y="1197000"/>
                    <a:ext cx="476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8520" y="119700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817560" y="1989000"/>
          <a:ext cx="7786800" cy="21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78680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8"/>
          <p:cNvSpPr/>
          <p:nvPr/>
        </p:nvSpPr>
        <p:spPr>
          <a:xfrm>
            <a:off x="2124000" y="4365720"/>
            <a:ext cx="64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графика поверки средств измер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графика аттестации испытательного оборудов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ые справочники средств измерений и испытательного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4"/>
          <p:cNvGraphicFramePr/>
          <p:nvPr/>
        </p:nvGraphicFramePr>
        <p:xfrm>
          <a:off x="2050920" y="1228680"/>
          <a:ext cx="4381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228680"/>
                    <a:ext cx="438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2700360" y="119376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щие справочники и отч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817560" y="1989000"/>
          <a:ext cx="7931160" cy="194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931160" cy="19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8"/>
          <p:cNvSpPr/>
          <p:nvPr/>
        </p:nvSpPr>
        <p:spPr>
          <a:xfrm>
            <a:off x="2124000" y="4365720"/>
            <a:ext cx="648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истема разграничения прав доступа для пользовател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ая справочная система и система отчет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аспорта качества, лабораторные журналы, заключения на испытуемый продукт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4"/>
          <p:cNvGraphicFramePr/>
          <p:nvPr/>
        </p:nvGraphicFramePr>
        <p:xfrm>
          <a:off x="1587600" y="1154160"/>
          <a:ext cx="476280" cy="44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7600" y="1154160"/>
                    <a:ext cx="476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5"/>
          <p:cNvSpPr/>
          <p:nvPr/>
        </p:nvSpPr>
        <p:spPr>
          <a:xfrm>
            <a:off x="1221840" y="111924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рмативно – техническая док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817560" y="1989000"/>
          <a:ext cx="7570800" cy="22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57080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0"/>
          <p:cNvSpPr/>
          <p:nvPr/>
        </p:nvSpPr>
        <p:spPr>
          <a:xfrm>
            <a:off x="2916360" y="4365720"/>
            <a:ext cx="302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Библиотека ГО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ГОСТЫ на продук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ГОСТЫ на мет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39640" y="1119240"/>
            <a:ext cx="4608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ласти применения Линтел 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63640" y="2060640"/>
            <a:ext cx="7129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Химическ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Авиационн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Дорожная отрас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редприятия транспортной инфраструк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ищев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Эколог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результат"/>
          <p:cNvPicPr/>
          <p:nvPr/>
        </p:nvPicPr>
        <p:blipFill>
          <a:blip r:embed="rId2"/>
          <a:stretch/>
        </p:blipFill>
        <p:spPr>
          <a:xfrm>
            <a:off x="179280" y="3141720"/>
            <a:ext cx="2592360" cy="174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867280" y="463680"/>
            <a:ext cx="29242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03280" y="177336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вышение достоверности получаемых результа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Снижение процента потерь и искажени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стоянный контроль исполнения запланированных лабораторных зада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вышение качества управления персонал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Увеличение производительности работ лаборатор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908000" y="981000"/>
            <a:ext cx="58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недрение Линтел Л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190440" y="2151000"/>
            <a:ext cx="961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Monotype Corsiva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079280" y="407664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Monotype Corsiva"/>
              </a:rPr>
              <a:t>ОАО Башкирское Специальное Конструкторское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188160" y="472428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Monotype Corsiva"/>
              </a:rPr>
              <a:t>«НефтеХимАвтомат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2050920" y="5632560"/>
            <a:ext cx="68421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Дополнительную информацию о системе «ЛинтеЛ ЛИС»  Вы можете получ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отправив запрос на адрес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lims@bashnxa.ru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либо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позвонив по телефону </a:t>
            </a: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8 (347) </a:t>
            </a:r>
            <a:r>
              <a:rPr b="1" lang="en-US" sz="1600" spc="-1" strike="noStrike">
                <a:solidFill>
                  <a:srgbClr val="ff6600"/>
                </a:solidFill>
                <a:latin typeface="Monotype Corsiva"/>
              </a:rPr>
              <a:t>284-35-90 , </a:t>
            </a: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233-02-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492280"/>
            <a:ext cx="3456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Лабораторная Информацион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588000" y="463680"/>
            <a:ext cx="2016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564000" y="1366920"/>
            <a:ext cx="2547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895400" y="1052640"/>
            <a:ext cx="6372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граммно – аппарат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ответ"/>
          <p:cNvPicPr/>
          <p:nvPr/>
        </p:nvPicPr>
        <p:blipFill>
          <a:blip r:embed="rId2"/>
          <a:stretch/>
        </p:blipFill>
        <p:spPr>
          <a:xfrm>
            <a:off x="0" y="2997360"/>
            <a:ext cx="1979640" cy="1969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5219640" y="2473200"/>
            <a:ext cx="3637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одсистема 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беспроводного интерфей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esult_view"/>
          <p:cNvPicPr/>
          <p:nvPr/>
        </p:nvPicPr>
        <p:blipFill>
          <a:blip r:embed="rId3"/>
          <a:stretch/>
        </p:blipFill>
        <p:spPr>
          <a:xfrm>
            <a:off x="2484360" y="3573360"/>
            <a:ext cx="3456000" cy="246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4"/>
          <a:stretch/>
        </p:blipFill>
        <p:spPr>
          <a:xfrm>
            <a:off x="4573440" y="3801960"/>
            <a:ext cx="3456000" cy="24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5003640" y="2421000"/>
            <a:ext cx="648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2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2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1640" y="1196640"/>
            <a:ext cx="352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33200" y="3931920"/>
            <a:ext cx="5194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Единое информационное простран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Безопасность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Работа с нескольких рабочих ме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тандартный документообо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ечатные и электронные отчетные 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татистика и анали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195640" y="2011320"/>
            <a:ext cx="5832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абораторной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070080" y="2602080"/>
            <a:ext cx="3743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238800" y="2579760"/>
            <a:ext cx="6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980640"/>
            <a:ext cx="4259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1"/>
          <p:cNvGraphicFramePr/>
          <p:nvPr/>
        </p:nvGraphicFramePr>
        <p:xfrm>
          <a:off x="2411280" y="2349360"/>
          <a:ext cx="43812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349360"/>
                    <a:ext cx="438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3"/>
          <p:cNvGraphicFramePr/>
          <p:nvPr/>
        </p:nvGraphicFramePr>
        <p:xfrm>
          <a:off x="2627280" y="5084640"/>
          <a:ext cx="45720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5084640"/>
                    <a:ext cx="457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5"/>
          <p:cNvGraphicFramePr/>
          <p:nvPr/>
        </p:nvGraphicFramePr>
        <p:xfrm>
          <a:off x="1835280" y="5661000"/>
          <a:ext cx="476280" cy="4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566100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7"/>
          <p:cNvGraphicFramePr/>
          <p:nvPr/>
        </p:nvGraphicFramePr>
        <p:xfrm>
          <a:off x="3059280" y="2852640"/>
          <a:ext cx="43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852640"/>
                    <a:ext cx="438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3203640" y="4365720"/>
          <a:ext cx="48564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4365720"/>
                    <a:ext cx="485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0"/>
          <p:cNvGraphicFramePr/>
          <p:nvPr/>
        </p:nvGraphicFramePr>
        <p:xfrm>
          <a:off x="3303720" y="3619440"/>
          <a:ext cx="47628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" name="Object 2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03720" y="3619440"/>
                    <a:ext cx="476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1"/>
          <p:cNvGraphicFramePr/>
          <p:nvPr/>
        </p:nvGraphicFramePr>
        <p:xfrm>
          <a:off x="1476360" y="1700280"/>
          <a:ext cx="863640" cy="828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" name="Object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6360" y="1700280"/>
                    <a:ext cx="863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23"/>
          <p:cNvSpPr/>
          <p:nvPr/>
        </p:nvSpPr>
        <p:spPr>
          <a:xfrm>
            <a:off x="5381640" y="463680"/>
            <a:ext cx="371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и 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582920" y="1773360"/>
            <a:ext cx="578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одсистема беспроводного интерфейса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559600" y="2276640"/>
            <a:ext cx="351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Управление образцам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6"/>
          <p:cNvSpPr/>
          <p:nvPr/>
        </p:nvSpPr>
        <p:spPr>
          <a:xfrm>
            <a:off x="2921760" y="5157720"/>
            <a:ext cx="38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Управление материалам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3824640" y="3649680"/>
            <a:ext cx="22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Оборудование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1865520" y="5734080"/>
            <a:ext cx="602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Нормативно – техническая документация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3298320" y="2852640"/>
            <a:ext cx="311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Общие справочник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0"/>
          <p:cNvSpPr/>
          <p:nvPr/>
        </p:nvSpPr>
        <p:spPr>
          <a:xfrm>
            <a:off x="3848400" y="4441680"/>
            <a:ext cx="177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татистика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1" descr="Линтел2"/>
          <p:cNvPicPr/>
          <p:nvPr/>
        </p:nvPicPr>
        <p:blipFill>
          <a:blip r:embed="rId16"/>
          <a:stretch/>
        </p:blipFill>
        <p:spPr>
          <a:xfrm>
            <a:off x="900000" y="3213000"/>
            <a:ext cx="1447920" cy="1457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219564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Схема"/>
          <p:cNvPicPr/>
          <p:nvPr/>
        </p:nvPicPr>
        <p:blipFill>
          <a:blip r:embed="rId2"/>
          <a:stretch/>
        </p:blipFill>
        <p:spPr>
          <a:xfrm>
            <a:off x="2843280" y="1700280"/>
            <a:ext cx="4857840" cy="4562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5094360"/>
            <a:ext cx="4537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Сбор и обработка результатов лабораторных испытаний, полученных по беспроводному радиоканалу связ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0"/>
          <p:cNvGraphicFramePr/>
          <p:nvPr/>
        </p:nvGraphicFramePr>
        <p:xfrm>
          <a:off x="1619280" y="1052640"/>
          <a:ext cx="6476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05264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Подсистема2"/>
          <p:cNvPicPr/>
          <p:nvPr/>
        </p:nvPicPr>
        <p:blipFill>
          <a:blip r:embed="rId2"/>
          <a:stretch/>
        </p:blipFill>
        <p:spPr>
          <a:xfrm>
            <a:off x="252360" y="1989000"/>
            <a:ext cx="4464000" cy="4248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381640" y="463680"/>
            <a:ext cx="371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и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967280" y="1377360"/>
            <a:ext cx="399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Максимальная дальность связи в помещении – до 100 метр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тандарт передачи информации - ZigBee/IEEE 802.15.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создание и настройка се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восстановление сети при сбо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озможность подключения до 65000 лабораторных аппаратов в единую сеть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1619280" y="1006560"/>
          <a:ext cx="6476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00656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6692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235560" y="463680"/>
            <a:ext cx="2556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03640" y="42948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оиск, сортировка результатов испытания по заданным критер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esult1"/>
          <p:cNvPicPr/>
          <p:nvPr/>
        </p:nvPicPr>
        <p:blipFill>
          <a:blip r:embed="rId2"/>
          <a:stretch/>
        </p:blipFill>
        <p:spPr>
          <a:xfrm>
            <a:off x="395280" y="2060640"/>
            <a:ext cx="2813040" cy="23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result_view"/>
          <p:cNvPicPr/>
          <p:nvPr/>
        </p:nvPicPr>
        <p:blipFill>
          <a:blip r:embed="rId3"/>
          <a:stretch/>
        </p:blipFill>
        <p:spPr>
          <a:xfrm>
            <a:off x="971640" y="2565360"/>
            <a:ext cx="2813040" cy="23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_report1"/>
          <p:cNvPicPr/>
          <p:nvPr/>
        </p:nvPicPr>
        <p:blipFill>
          <a:blip r:embed="rId4"/>
          <a:stretch/>
        </p:blipFill>
        <p:spPr>
          <a:xfrm>
            <a:off x="250920" y="3284640"/>
            <a:ext cx="4173480" cy="227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_report3"/>
          <p:cNvPicPr/>
          <p:nvPr/>
        </p:nvPicPr>
        <p:blipFill>
          <a:blip r:embed="rId5"/>
          <a:stretch/>
        </p:blipFill>
        <p:spPr>
          <a:xfrm>
            <a:off x="1116000" y="4365720"/>
            <a:ext cx="3444840" cy="161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report1"/>
          <p:cNvPicPr/>
          <p:nvPr/>
        </p:nvPicPr>
        <p:blipFill>
          <a:blip r:embed="rId6"/>
          <a:stretch/>
        </p:blipFill>
        <p:spPr>
          <a:xfrm>
            <a:off x="3276720" y="3141720"/>
            <a:ext cx="1717560" cy="2695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5"/>
          <p:cNvSpPr/>
          <p:nvPr/>
        </p:nvSpPr>
        <p:spPr>
          <a:xfrm>
            <a:off x="5003640" y="1754280"/>
            <a:ext cx="38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•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Формирование единой базы данных по результатам лабораторных испытаний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003640" y="2840040"/>
            <a:ext cx="314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редставление отчетов по испытани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5003640" y="357336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редставление результатов испытания в виде граф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003640" y="5300640"/>
            <a:ext cx="3824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зированный сбор и обработка результатов лабораторных испыт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9"/>
          <p:cNvGraphicFramePr/>
          <p:nvPr/>
        </p:nvGraphicFramePr>
        <p:xfrm>
          <a:off x="1619280" y="1006560"/>
          <a:ext cx="64764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100656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2892600" y="2571840"/>
            <a:ext cx="107136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71280" y="2244600"/>
            <a:ext cx="2500560" cy="239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2071800" y="4714920"/>
            <a:ext cx="2500200" cy="20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5143680" y="3214800"/>
            <a:ext cx="3862080" cy="35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3286080" y="500040"/>
            <a:ext cx="2500200" cy="2085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6683400" y="1125360"/>
            <a:ext cx="253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ем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интел ЛИ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распределенной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7" descr=""/>
          <p:cNvPicPr/>
          <p:nvPr/>
        </p:nvPicPr>
        <p:blipFill>
          <a:blip r:embed="rId6"/>
          <a:stretch/>
        </p:blipFill>
        <p:spPr>
          <a:xfrm>
            <a:off x="3224160" y="4286160"/>
            <a:ext cx="1347840" cy="4269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8" descr=""/>
          <p:cNvPicPr/>
          <p:nvPr/>
        </p:nvPicPr>
        <p:blipFill>
          <a:blip r:embed="rId7"/>
          <a:stretch/>
        </p:blipFill>
        <p:spPr>
          <a:xfrm>
            <a:off x="4637160" y="5214960"/>
            <a:ext cx="434880" cy="64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8"/>
          <a:stretch/>
        </p:blipFill>
        <p:spPr>
          <a:xfrm>
            <a:off x="2571840" y="2500200"/>
            <a:ext cx="714240" cy="67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9"/>
          <a:stretch/>
        </p:blipFill>
        <p:spPr>
          <a:xfrm>
            <a:off x="5715000" y="2571840"/>
            <a:ext cx="857160" cy="103824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2" descr=""/>
          <p:cNvPicPr/>
          <p:nvPr/>
        </p:nvPicPr>
        <p:blipFill>
          <a:blip r:embed="rId10"/>
          <a:stretch/>
        </p:blipFill>
        <p:spPr>
          <a:xfrm>
            <a:off x="3643200" y="3214800"/>
            <a:ext cx="1204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34:31Z</dcterms:created>
  <dc:creator>tsiber</dc:creator>
  <dc:description/>
  <dc:language>en-US</dc:language>
  <cp:lastModifiedBy>Руслан Р. Шириев</cp:lastModifiedBy>
  <dcterms:modified xsi:type="dcterms:W3CDTF">2012-03-28T05:32:41Z</dcterms:modified>
  <cp:revision>92</cp:revision>
  <dc:subject/>
  <dc:title>Лабораторная информационная система</dc:title>
</cp:coreProperties>
</file>